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E5D-481F-48C7-9B47-317766ED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3BA-D74E-4E95-BABC-6E069F1A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294-598B-447C-BE80-B49436C3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FF3-EA43-435C-BE0F-6DA834A2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89F-F534-4070-8E4D-85203D0C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F3D-443D-4546-B124-030E271F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185-4217-4FB6-A63E-390171BD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3FA-07CB-4672-9DD3-29BCAE35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CA8-A63D-4C3A-89CD-239FACF2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28B-BC5D-4771-94B7-382ED7A4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59C-58B5-4B50-9ADB-3DC06B1C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9F1-5A75-4B55-9384-4FAB78F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F8EE-05CE-450F-BDD8-D0D18F55E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lase 801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20 de octubre del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s fú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3 sentences about each of the following topic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6 in tota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 famili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 ca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5405400" y="1295280"/>
            <a:ext cx="251928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2709720" cy="2819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6172200" y="4952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jug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85800" y="6095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jug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4800240" y="2895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7467480" y="21337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7162920" y="3200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H="1">
            <a:off x="5866920" y="3809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7772400" y="3886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5028840" y="1447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4419720" y="2209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3429000" y="1219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391520" y="129528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izqui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7467480" y="28195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7924680" y="4191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4648320" y="41148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3581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derec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3124080" y="1905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70102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281952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3352680" y="5334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l b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La pelota de fut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205704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tablero ind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25146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58128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t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342900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5867280" y="16765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port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a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2324160" cy="1743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457200" y="50292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por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arqu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2724120" cy="2154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4"/>
          <p:cNvSpPr/>
          <p:nvPr/>
        </p:nvSpPr>
        <p:spPr>
          <a:xfrm>
            <a:off x="2590920" y="5334120"/>
            <a:ext cx="3962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la aficionado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514600" y="579132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/ La espectador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5"/>
          <a:stretch/>
        </p:blipFill>
        <p:spPr>
          <a:xfrm>
            <a:off x="6172200" y="2743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7"/>
          <p:cNvSpPr/>
          <p:nvPr/>
        </p:nvSpPr>
        <p:spPr>
          <a:xfrm>
            <a:off x="6095880" y="47242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canch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76320" y="25146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mar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311796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r a…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za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ar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laudi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quear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a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r un gol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ar un tant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6320" y="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artid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imer tiemp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gundo tiemp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mpate (empatado)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ra-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stadio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23880" y="763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h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666880" y="5335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irst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124080" y="914400"/>
            <a:ext cx="335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cond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657600" y="13716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tie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154240" y="312408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play..</a:t>
            </a:r>
            <a:r>
              <a:rPr b="0" i="1" lang="es-ES_tradnl" sz="2800" spc="-1" strike="noStrike">
                <a:solidFill>
                  <a:srgbClr val="333399"/>
                </a:solidFill>
                <a:latin typeface="Arial"/>
              </a:rPr>
              <a:t>(a s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409760" y="373392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throw/ to k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752480" y="428796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849320" y="48769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576520" y="54864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score a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3124080" y="609588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score a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1447920" y="17524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1523880" y="22096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ta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248520" y="43434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appl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943600" y="489744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dcterms:modified xsi:type="dcterms:W3CDTF">2014-10-20T22:13:06Z</dcterms:modified>
  <cp:revision>47</cp:revision>
  <dc:subject/>
  <dc:title>Me llamo _________        Clase 7 IM La fecha es el 4 de noviembre del 2010</dc:title>
</cp:coreProperties>
</file>